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644D-1D6F-4CEA-925D-25EBF6C6E7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ncient Mexico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, Incan, and Aztec Civilization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By: Mrs. Meredith Sande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ient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, Incan, and Aztec Civil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Meredith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ztec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is ancient tribe wandered for many yea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Founded their greatest city, Tenochtitlan (this is the site of modern Mexico City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belonged to a large family group called calpolli, meaning “big house” or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t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cient tribe wandered for many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their greatest city, Tenochtitlan (this is the site of modern Mexico C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elonged to a large family group called calpolli, meaning “big house” or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Calpolli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Each calpolli elected its own officials to run its business. They were a true democracy and voted on decision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men did not have a vote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Calpolli expected all of its able-bodied men to fight any wars.  The men considered it an honor to fight for their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family arranged for all marriages.  A young person could only marry someone outside the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 woman who married now joined her husband’s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pol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alpolli elected its own officials to run its business. They were a true democracy and voted on deci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did not have a vo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polli expected all of its able-bodied men to fight any wars.  The men considered it an honor to fight for their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mily arranged for all marriages.  A young person could only marry someone outside the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man who married now joined her husband’s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En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otihuaca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4 well-known buildings in this ancient city: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yramid of the Su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yramid of the Mo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mple of Quetzalcoatl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mple of the Jagua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otihua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well-known buildings in this ancient c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 of the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le of Quetzalcoa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le of the Jagu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Olmec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were the first major Indian Tribe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Olmec means “rubber people.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wo major cities were San Lorenzo and La Venta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used a form of picture writing; had a number system and calendar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m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the first major Indian Tri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mec means “rubber peopl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ajor cities were San Lorenzo and La Ven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d a form of picture writing; had a number system and calend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Rubber people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Aztec Indians gave the tribe this name because the Olmecs supplied them with sap from rubber tree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bber peopl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ztec Indians gave the tribe this name because the Olmecs supplied them with sap from rubber tr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ppearance: Short in height, straight black hair, painted their bodies, had tattoos, valued crossed-eyes and flat forehea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ree eras: pre-classic, classic, and post-classic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s used glyphs in their writing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earance: Short in height, straight black hair, painted their bodies, had tattoos, valued crossed-eyes and flat foreh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eras: pre-classic, classic, and post-clas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s used glyphs in their wri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Glyph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ir glyph writing (picture) expanded largely using about 800 different glyph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glyph writing (picture) expanded largely using about 800 different gly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 Relig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ed many different go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Each day, month, city, and occupation had its special god or goddes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Had a variety of religious festivals and celebration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ost ceremonies includes human sacrifice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In many ceremonies, the priests cut themselves to get blood to present to the go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ir religion taught that there were 13 layers of heaven above the earth &amp; 9 underworlds below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ed the dea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 Reli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ed many different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day, month, city, and occupation had its special god or godd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 variety of religious festivals and celeb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eremonies includes 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ny ceremonies, the priests cut themselves to get blood to present to the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religion taught that there were 13 layers of heaven above the earth &amp; 9 underworlds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ed the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Mayas had 3 methods of giving the human sacrifices: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priests took the victim to the altar at the temple and cut the heart out of the living victim and presented it to the god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priests tied the victim to a wooden pole and threw spears and arrows at the victim’s chest in the area of the heart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yas had 3 methods of giving the human sacrifi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ests took the victim to the altar at the temple and cut the heart out of the living victim and presented it to the g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ests tied the victim to a wooden pole and threw spears and arrows at the victim’s chest in the area of the he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ing the Dea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believed the dead became one with the god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worshipped their ancestors at many religious ceremonie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also built pyramids over the sacred remains of their dead ruler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ing the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elieved the dead became one with the g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orshipped their ancestors at many religious ceremon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lso built pyramids over the sacred remains of their dead rul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1BF3-16AB-4665-B35A-0DD2FF1DD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B915-D140-41E0-9F50-C34B0011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B5B6D1-A6D1-414F-B0F9-91072598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7E6CBF-5A54-4E6F-B403-76966E1B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7E16B-FC70-426B-9C42-0F5FC42F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BF5E0C-8146-47AA-9D98-282F9B3C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D7860-87AB-47A0-BCD9-EC3494B7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3A562-1933-425E-A9DC-0FA9C10B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026569-5135-4A03-824E-C6F149B1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1528D-FD79-4790-9C34-4E621D398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62032-D92B-4AA0-A35C-8BAEFB003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60B92B-5219-4031-BECD-E13D2E77D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C1F6-EDCA-4253-B3BD-02722E239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BB3295-FC4F-4F40-AB17-767CEE1B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F16C67-0B49-4A35-A3F6-310F3720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0B1CE-61D5-4AA0-9B9E-D3F514EC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179C6F-2D72-42B4-9C25-A42175F0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C95EC-8640-4244-8FC2-81199CE5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51F530-E679-40BA-BDF4-9E26D747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9CC316-FA2B-4FD9-B8A0-82F518DD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419980-A7E7-41DC-93A5-5248409B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2D1B85-E587-432F-8C0D-70CDAA0C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1B4B61-EF25-4B08-BBC0-2ADA56C90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B388-8DCC-499E-BBB6-56FB3D2EC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3BF9CF-1944-4CCB-8145-19DFE40E3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A23BF-1B22-4CB5-9D05-D42E05EA3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DC5156-7FC8-42F5-AE7D-715C4ECE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70780-EE1F-4B2D-AC35-E0767E29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1CF1E-0007-45ED-96FC-5D5E3BE7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18CAA-DF0A-4379-A8CE-11489630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5C658-6150-44F6-B1A2-C58FF742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7089D-BB2A-49A7-810F-30A27FE3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58385-7700-4474-AD2F-1744BA05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E16DB5-2AB9-4C6B-AE45-313699E5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7099-81CC-4945-95E2-C281B4B27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13083-C9F4-4323-B928-DAFEBA3E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BB3770-5623-4B92-BC0E-A3B347F3C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FE05A-DABA-4254-AEEA-718AB41BC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F7C6F2-F89D-4640-BC0B-B2E5CD7F9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25A92D-6A61-411D-9F64-833F0786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B57BFB-A05F-4288-A281-8487B5B5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EC4FC4-7636-45EB-A3BE-894AAD31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D6F935-5700-4B96-BA92-E0B5553F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9D35A6-43E4-4E13-9DFA-27CEA970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1BE9D5-964A-40D6-97C2-3CE21024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3888-60B5-4C8F-8E6F-50F51F31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E59461-0473-40B6-9CBF-C538663D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9C9D99-A9E5-4555-9173-015EDDC0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2F3EF7-67EE-44BE-99DB-37CE1506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9F5648-00BC-44DF-9B43-2918A30EF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7FF0BC-074E-436F-B240-A88C15C0B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775E91-6AD3-40EC-A97F-6AAFCAC5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F78CC6-D48A-4A7A-81C6-A0890EFE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AE5442-B32C-4182-8CCE-393DBBF5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7C217A-0D8B-487D-95C9-5A8273F2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63A0C8-B5AA-4065-8CB2-945AF16B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A622-DB90-4AFC-9A65-8D68A4EF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C353DA-D9F7-4B32-9DEF-E5A12A88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B74C2C-C1DD-4672-895D-9B2F6F67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816971-3FE7-485F-8733-AB21082A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4B9BF9-243A-4D7A-8500-980CA455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817545-59B9-461E-892B-FE4DE087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6F26E8-BF6C-4890-A118-E20B93CA4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E2B61C-57D7-483D-9B54-8B8FB920E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8FD996-D230-4E21-B377-94A063490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60DAA3-7AF4-41AA-9FC9-98E8A9A8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591B62-A780-4094-9CF9-B62F4233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AC3E-B1E1-4FCD-AE06-49A6F03E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386452-A4FE-4260-B800-9B88EC69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E496D6-E826-45E3-A4AF-9CE9217E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BC98B8-24F1-4511-A433-F87F867E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CFDE58-ED2D-4459-9CDC-F8A9F61B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78336F-CCDC-4ED6-9B94-0221AE02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404F1E-5C41-4CA2-9CA9-5517CE64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4E10AC-62B9-41B7-B50B-65891549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90A70C-8054-4F24-A2A1-40B1E1774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804817-2206-49B3-BECB-E67C322AC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D463-90EE-4A15-A415-92159249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7E09-FD6B-41EE-975F-0E4CCB46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210C-C2F5-4D77-9F06-9DBF1E67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A79F-85D4-47FF-96C3-18B65A74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D719-A2EB-4317-8717-3E0809D7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075D-E174-4996-B782-68E14D67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FD3E-48FB-46FF-B22E-BB0214C2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301B-5593-4E95-8E66-660288435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EF7E-0A6D-435E-A7A6-0BB612DB4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48D61-0F4D-4FEC-85AC-4FBEC1FA9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1931D-E4B7-403A-BC4B-54ADDE9D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0FEAB-3491-43FB-A187-5293F69D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581B2-6FDA-4905-9AEC-3EE431CD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9EA31-1319-46BB-9039-4FB999AA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4201-2642-48F3-B80A-DD06CCD9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FBB2A-C5A3-442C-9280-F5BDF1B3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7368C-2E7B-4B74-A2A8-6854C264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875B6-81D2-44D1-A51D-1FF9D057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E4D7F-AA67-4FD7-B4EB-84568D40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B260A-1B26-4649-91E9-A0BD7682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61A25-7E84-468D-8F1F-5113449B5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5B7BA-F5A4-4762-8957-286D65A93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9D257-2B75-4CAF-931A-6F0FC8D36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FC760-AF0B-4377-B95E-FB001E73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47511-A96F-4FE8-9926-F2D3DB48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9E85-2D82-4F6E-AA36-8B481969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32977-C99C-49B4-B4DF-D96C444A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8D3FD-B87B-4D2D-9172-30410667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FBE66-3139-4264-8C8B-307F9BA4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F5B25-8070-4B67-BE19-7034B759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1E5A4-5DC5-4400-8AB8-8126DC6D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D85BC-BD33-4137-B7CC-DB3B7645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2DDB2-D544-41CD-9498-E27675DE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DD8FE-FA2A-45BD-ACA6-207529B94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54BFF-4AEB-4647-ADE0-4CC4BF728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E57B4-AD79-4954-A723-27914D751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F16E-BF08-4B86-9BCD-036B9E21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BAAA1-6B11-40AB-B364-89533974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6C8AE-D233-456F-806D-0E22DA37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7E808-FE22-418A-B6AC-9CBC856A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3914E-961A-40E4-8ABA-E899BEBD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54088-EA6F-46B9-B278-58264868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66DF1-16E6-4397-972E-F53D790E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09A13-C175-442D-9CBD-311A02C2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2EEB7-C899-462C-BC82-EA48B3F7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1C94D-FCE0-4DB3-B5E9-4FCF34EF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2EE19-D735-4DA4-99A5-9310C1989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F2B5-C4EA-47FA-A4C6-65F3DA96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4ECCA-0A11-42AE-8A54-0F1B8CC91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AE7E7-CF67-4360-816F-6B905E7B8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83483-0890-46A0-876A-699376DF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57CEF-B145-4461-A70A-BB700AF8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569B3-12A1-4F45-9093-1F7B39B3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8DE60-42DF-41B3-8A17-C7FB4F61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09013-FABD-4A5F-8F15-3747883E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ACAA7-B483-4906-BC27-0493D108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26AC0-FDB4-4A59-8F67-00942649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59C25-1F51-48D0-9DA0-A8905BBD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7C0A-0480-4EF6-B9B6-19505F48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10A70-1BC8-417E-8A74-63957B6E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F6DDB-DB7C-4B4C-B181-EC7E8DC91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E513A-8004-4863-9AA3-7F3946E31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021AE-E643-457F-8236-9C18B2D90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8315F-040F-45C4-896C-58F299D9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C6039-9C8C-4494-A138-22231128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681B4-7EC0-4A69-84AB-6FD9F785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1F83C-390F-4B57-8BFE-BFAEE308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C1B50-6925-497D-AB83-FFE20008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0A6D5-BB6A-4FA3-9D1D-D3E090FC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FD23-B6BA-4032-A792-89DACA13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8F67A-F018-42CD-AF35-1A95D9B0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CEE72-E8A4-4A95-A56B-7841878E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2CFBE-27AF-4E40-852D-89F3AE5D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3FB66-5AE8-4DFB-A0E1-F9A29858A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BDD30-D289-4048-AAE3-790006163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84DF9-B611-45E0-BBFC-33EF19B27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053AB-F8E8-4B3E-B9C3-DB588139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A5912-DFB6-45DF-A016-1D2FCA0F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C791E-1C44-4560-84BC-1DFF7EDD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4D9CC-3077-4EF7-A5F6-4B146484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F9D2-6101-4F3C-8D25-1C5ED67A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352D1-E822-41A3-B286-B02F6178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B8C17-0967-4C5B-A8A5-238EF2F2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5B5F9-FF1A-48C8-A4AF-611E8719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E952E-2BBC-4AC1-9AA0-D6180B31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6CE58-11C6-49A2-B363-930C6EB7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0DF89-0BCD-4C9E-9DA0-2AAB85C9E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4E77A-A81B-44B1-9061-83C164BFE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A33280-1FFC-460B-8CF2-C602304A9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71E341-F042-43F0-97C0-99978680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833D5-B7F8-4F27-AFD0-98AF2504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539E-7ADF-4187-B871-4CED58508774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462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463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5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6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7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8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9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470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28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29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0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D005-FCFA-40E1-AAFD-874EA6AF2F96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513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14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6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7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8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9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20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521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C87D-F637-475E-AB9B-7FDD17F769FB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564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65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7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8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9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0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1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572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34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35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36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B365-7C78-4B3D-AA9D-5EA847651C6A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615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616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8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9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0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1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2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23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568F-EF73-43BD-8C0B-9CCD54477D90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666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667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69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0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1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2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3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7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40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41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42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BA21-A974-401B-A9B7-82DB99363D6F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3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28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9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10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11" descr="Astonbnr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14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13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8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9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26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F70D-C969-461C-8014-D1847EDC18B7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05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06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0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1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13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418E-A687-4A69-9560-8B0DC07597B3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56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57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1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2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3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6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C04B-5EB8-4E79-9889-34E639D4261A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207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08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0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1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2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3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4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15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5F17-3698-454E-B352-8661D9165551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258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59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3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4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66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6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7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8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5082-0282-4736-9210-5A0F84ED0471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309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310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3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4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5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6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17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9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0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1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55AB-AEAE-4E64-BE93-BDC85197BA2A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360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361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3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4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5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6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7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68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2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3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4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38B9-7C85-41BF-8F9D-72B9CA7A6D6F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41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41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419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5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6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7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D76F-E48B-49FD-B8D4-5B8619511CE2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67088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Bookman Old Style"/>
              </a:rPr>
              <a:t>Ancient Mexico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3333"/>
                </a:solidFill>
                <a:latin typeface="Monotype Corsiva"/>
              </a:rPr>
              <a:t>Mayan, Incan, and Aztec Civilizations</a:t>
            </a:r>
            <a:endParaRPr b="0" lang="en-US" sz="65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Monotype Corsiva"/>
              </a:rPr>
              <a:t>By: Mrs. Meredith Sanders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Місце для нижнього колонтитула 1"/>
          <p:cNvSpPr/>
          <p:nvPr/>
        </p:nvSpPr>
        <p:spPr>
          <a:xfrm>
            <a:off x="3700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zte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is ancient tribe wandered for many year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Founded their greatest city, Tenochtitlan (this is the site of modern Mexico City)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belonged to a large family group called </a:t>
            </a:r>
            <a:r>
              <a:rPr b="0" i="1" lang="en-US" sz="2500" spc="-1" strike="noStrike">
                <a:solidFill>
                  <a:srgbClr val="333333"/>
                </a:solidFill>
                <a:latin typeface="Arial"/>
              </a:rPr>
              <a:t>calpolli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, meaning “big house” or clan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66" name="Picture 5" descr="bl00158_"/>
          <p:cNvPicPr/>
          <p:nvPr/>
        </p:nvPicPr>
        <p:blipFill>
          <a:blip r:embed="rId1"/>
          <a:stretch/>
        </p:blipFill>
        <p:spPr>
          <a:xfrm>
            <a:off x="4419720" y="2590920"/>
            <a:ext cx="4724280" cy="3396960"/>
          </a:xfrm>
          <a:prstGeom prst="rect">
            <a:avLst/>
          </a:prstGeom>
          <a:ln w="0">
            <a:noFill/>
          </a:ln>
        </p:spPr>
      </p:pic>
      <p:sp>
        <p:nvSpPr>
          <p:cNvPr id="767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Arial"/>
              </a:rPr>
              <a:t>Calpoll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2574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Each calpolli elected its own officials to run its business. They were a true democracy and voted on decisions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Women did not have a vote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alpolli expected all of its able-bodied men to fight any wars.  The men considered it an honor to fight for their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e family arranged for all marriages.  A young person could only marry someone outside the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 woman who married now joined her husband’s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97600" cy="17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Monotype Corsiva"/>
              </a:rPr>
              <a:t>Th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333333"/>
                </a:solidFill>
                <a:latin typeface="Monotype Corsiva"/>
              </a:rPr>
              <a:t>End</a:t>
            </a:r>
            <a:endParaRPr b="0" lang="en-US" sz="10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3" name="Місце для нижнього колонтитула 1"/>
          <p:cNvSpPr/>
          <p:nvPr/>
        </p:nvSpPr>
        <p:spPr>
          <a:xfrm>
            <a:off x="3700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otihuac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334120" y="1600200"/>
            <a:ext cx="36957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4 well-known buildings in this ancient city: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28" name="Picture 5" descr="j0232310"/>
          <p:cNvPicPr/>
          <p:nvPr/>
        </p:nvPicPr>
        <p:blipFill>
          <a:blip r:embed="rId1"/>
          <a:stretch/>
        </p:blipFill>
        <p:spPr>
          <a:xfrm>
            <a:off x="1257480" y="2413080"/>
            <a:ext cx="4076640" cy="3049560"/>
          </a:xfrm>
          <a:prstGeom prst="rect">
            <a:avLst/>
          </a:prstGeom>
          <a:ln w="0">
            <a:noFill/>
          </a:ln>
        </p:spPr>
      </p:pic>
      <p:sp>
        <p:nvSpPr>
          <p:cNvPr id="729" name="Rectangle 8"/>
          <p:cNvSpPr/>
          <p:nvPr/>
        </p:nvSpPr>
        <p:spPr>
          <a:xfrm>
            <a:off x="5562720" y="2743200"/>
            <a:ext cx="2884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Pyramid of the Sun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Text Box 9"/>
          <p:cNvSpPr/>
          <p:nvPr/>
        </p:nvSpPr>
        <p:spPr>
          <a:xfrm>
            <a:off x="5334120" y="3733920"/>
            <a:ext cx="32763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Pyramid of the Moon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Text Box 10"/>
          <p:cNvSpPr/>
          <p:nvPr/>
        </p:nvSpPr>
        <p:spPr>
          <a:xfrm>
            <a:off x="5105520" y="4572000"/>
            <a:ext cx="40384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emple of Quetzalcoatl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Text Box 11"/>
          <p:cNvSpPr/>
          <p:nvPr/>
        </p:nvSpPr>
        <p:spPr>
          <a:xfrm>
            <a:off x="5334120" y="5486400"/>
            <a:ext cx="35049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emple of the Jaguar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lme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were the first major Indian Tribe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Olmec means “rubber people.”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wo major cities were San Lorenzo and La Venta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used a form of picture writing; had a number system and calendar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36" name="Picture 5" descr="na01441_"/>
          <p:cNvPicPr/>
          <p:nvPr/>
        </p:nvPicPr>
        <p:blipFill>
          <a:blip r:embed="rId1"/>
          <a:stretch/>
        </p:blipFill>
        <p:spPr>
          <a:xfrm>
            <a:off x="6934320" y="609480"/>
            <a:ext cx="1890720" cy="213372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6" descr="j0215761"/>
          <p:cNvPicPr/>
          <p:nvPr/>
        </p:nvPicPr>
        <p:blipFill>
          <a:blip r:embed="rId2"/>
          <a:stretch/>
        </p:blipFill>
        <p:spPr>
          <a:xfrm>
            <a:off x="5334120" y="3352680"/>
            <a:ext cx="3124080" cy="2673360"/>
          </a:xfrm>
          <a:prstGeom prst="rect">
            <a:avLst/>
          </a:prstGeom>
          <a:ln w="0">
            <a:noFill/>
          </a:ln>
        </p:spPr>
      </p:pic>
      <p:sp>
        <p:nvSpPr>
          <p:cNvPr id="738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3" dur="500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8" dur="500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3" dur="500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8" dur="500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ubber people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The Aztec Indians gave the tribe this name because the Olmecs supplied them with sap from rubber trees.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41" name="Picture 5" descr="na01441_"/>
          <p:cNvPicPr/>
          <p:nvPr/>
        </p:nvPicPr>
        <p:blipFill>
          <a:blip r:embed="rId1"/>
          <a:stretch/>
        </p:blipFill>
        <p:spPr>
          <a:xfrm>
            <a:off x="1338120" y="1981080"/>
            <a:ext cx="3646800" cy="4114800"/>
          </a:xfrm>
          <a:prstGeom prst="rect">
            <a:avLst/>
          </a:prstGeom>
          <a:ln w="0">
            <a:noFill/>
          </a:ln>
        </p:spPr>
      </p:pic>
      <p:sp>
        <p:nvSpPr>
          <p:cNvPr id="742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y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772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Appearance: Short in height, straight black hair, painted their bodies, had tattoos, valued crossed-eyes and flat forehead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ree eras: pre-classic, classic, and post-classic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Mayans used glyphs in their writing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45" name="Picture 7" descr="bd08510_"/>
          <p:cNvPicPr/>
          <p:nvPr/>
        </p:nvPicPr>
        <p:blipFill>
          <a:blip r:embed="rId1"/>
          <a:stretch/>
        </p:blipFill>
        <p:spPr>
          <a:xfrm>
            <a:off x="1447920" y="2438280"/>
            <a:ext cx="3276360" cy="3073680"/>
          </a:xfrm>
          <a:prstGeom prst="rect">
            <a:avLst/>
          </a:prstGeom>
          <a:ln w="0">
            <a:noFill/>
          </a:ln>
        </p:spPr>
      </p:pic>
      <p:sp>
        <p:nvSpPr>
          <p:cNvPr id="746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0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lyph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6582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ir glyph writing (picture) expanded largely using about 800 different glyph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49" name="Picture 1028" descr="sy01455_"/>
          <p:cNvPicPr/>
          <p:nvPr/>
        </p:nvPicPr>
        <p:blipFill>
          <a:blip r:embed="rId1"/>
          <a:stretch/>
        </p:blipFill>
        <p:spPr>
          <a:xfrm>
            <a:off x="4343400" y="3689280"/>
            <a:ext cx="1789200" cy="316872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1029" descr="an02038_"/>
          <p:cNvPicPr/>
          <p:nvPr/>
        </p:nvPicPr>
        <p:blipFill>
          <a:blip r:embed="rId2"/>
          <a:stretch/>
        </p:blipFill>
        <p:spPr>
          <a:xfrm>
            <a:off x="1600200" y="380880"/>
            <a:ext cx="1495440" cy="173376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1030" descr="an02044_"/>
          <p:cNvPicPr/>
          <p:nvPr/>
        </p:nvPicPr>
        <p:blipFill>
          <a:blip r:embed="rId3"/>
          <a:stretch/>
        </p:blipFill>
        <p:spPr>
          <a:xfrm>
            <a:off x="7010280" y="380880"/>
            <a:ext cx="1689120" cy="165888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1031" descr="an02045_"/>
          <p:cNvPicPr/>
          <p:nvPr/>
        </p:nvPicPr>
        <p:blipFill>
          <a:blip r:embed="rId4"/>
          <a:stretch/>
        </p:blipFill>
        <p:spPr>
          <a:xfrm>
            <a:off x="1219320" y="4724280"/>
            <a:ext cx="1827000" cy="196236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1032" descr="an02041_"/>
          <p:cNvPicPr/>
          <p:nvPr/>
        </p:nvPicPr>
        <p:blipFill>
          <a:blip r:embed="rId5"/>
          <a:stretch/>
        </p:blipFill>
        <p:spPr>
          <a:xfrm>
            <a:off x="7162920" y="5410080"/>
            <a:ext cx="1457280" cy="954360"/>
          </a:xfrm>
          <a:prstGeom prst="rect">
            <a:avLst/>
          </a:prstGeom>
          <a:ln w="0">
            <a:noFill/>
          </a:ln>
        </p:spPr>
      </p:pic>
      <p:sp>
        <p:nvSpPr>
          <p:cNvPr id="754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yan Relig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orshipped many different god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ach day, month, city, and occupation had its special god or goddes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ad a variety of religious festivals and celebra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st ceremonies includes human sacrific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n many ceremonies, the priests cut themselves to get blood to present to the god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ir religion taught that there were 13 layers of heaven above the earth &amp; 9 underworlds below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orshipped the dea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7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7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7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7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uman Sacrifi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7886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33"/>
                </a:solidFill>
                <a:latin typeface="Arial"/>
              </a:rPr>
              <a:t>The Mayas had 3 methods of giving the human sacrifices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priests took the victim to the altar at the temple and cut the heart out of the living victim and presented it to the god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priests tied the victim to a wooden pole and threw spears and arrows at the victim’s chest in the area of the heart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5" dur="500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5" dur="500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0" dur="500"/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orshipping the De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believed the dead became one with the god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worshipped their ancestors at many religious ceremonie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also built pyramids over the sacred remains of their dead ruler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15:29:38Z</dcterms:created>
  <dc:creator>Pam Tucker</dc:creator>
  <dc:description/>
  <dc:language>en-US</dc:language>
  <cp:lastModifiedBy>LEGION</cp:lastModifiedBy>
  <dcterms:modified xsi:type="dcterms:W3CDTF">2017-07-03T10:04:04Z</dcterms:modified>
  <cp:revision>16</cp:revision>
  <dc:subject/>
  <dc:title>Ancient Mexico</dc:title>
</cp:coreProperties>
</file>